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7D0-DC13-4D86-84E9-B99A1CB3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CE6-9055-4231-A18F-E930C156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19F-23BF-45B3-B945-04A69840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D9F-F2FC-481A-8EB0-65BA0D84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AD00-7BC5-438C-8B81-D9892E42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B195-ED7B-4AB2-8BD7-85DD7FA6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3767-35E2-486B-82D6-F7864968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9175-6642-415F-AEA4-A762D4D8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36EA-10FA-4E80-A118-9C964BE4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4550-23C5-475B-A059-946D5CD9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E3A6-2C8F-44E5-BABF-FC1080CD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BF6-A7DA-47CD-BD6D-BABA031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1B62-E061-4A6E-B4A9-3CBF39F2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E61D-0816-45BA-B545-CC183CA3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1E5D-D305-4EC7-8F5A-7BF61C14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0CA5-BC39-4E69-ADFF-ED50A321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DBDF-25D5-4911-9D6F-6F35C836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F3A-C3C1-4D45-BE62-B4E0D7E6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4D0-3040-42CF-8E81-7456EC72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D3B-18EB-4BDF-962D-1BA700D4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017-F0E3-4D48-A9FE-78766209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1AC-509F-4B11-A6FA-7577A76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DC7-40B2-4BC9-9690-EAFB22A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DFC-60B2-4518-B9CE-28F458F6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5190-C845-4100-9664-7989FE2FF71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6623-D152-48DF-880C-7A105FC8A4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920" y="620280"/>
            <a:ext cx="460872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ª Reunião de Análise da Estratégia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15.02.2019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U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EJERN 2016-2020 (Res 24/2015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lano de Gestão 2018-202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elatório de Gestão 2018 TC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AEs realizadas em 201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iretrizes e Orientações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7640" y="76176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ssão – Visão de Futuro  Cadeia de Valo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m Somos? Missão e Val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de queremos chegar? Visão e Objetivos estraté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chegaremos? PEJERN 2016-2020 + Plano de Gestão 2018-20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102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retrizes e Orient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avaliação do Planejamento Estratégico do TRE/R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lteração na Cadeia de Valor da Justiça Eleitoral do RN - 2018 (Portaria nº 179/2018, 03.08.2018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mplantar a metodologia das Reuniões de Análise da Estratégia (RAE) – art. 11 da Res. TRE/RN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onitorar as reuniões periódicas das unidades administrativas, por meio dos planos institucionais de níveis tático e operacional, a partir das atas das respectivas reuniões das Unida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atório de Gestão 2018 do TRE/RN, com data limite de apresentação junto ao TCU, em 30.04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estrutura indicada será apresentada em reunião, no dia 19.02.2019, junto a comissão constituída, por meio da Portaria nº 50/2019-GP, de 08.02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o Justiça em Números – Grupo de Trabalho constituído, por meio da Portaria nº 57-GP, de 15.02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nálise das ações/projetos do Plano de Gestão 2018-2020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dicadores de Apoio do PEJER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ª Reunião do Ranking da Transparênc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finir pendências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Novo formato de acompanhamento (inclusão de periodicidade de análise)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lustrar sugestões de alterações ou incrementos, a partir de trabalho iniciado na ASPLAN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lher as indicações de servidores para evento de capacitação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car nova data de reunião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12:26:42Z</dcterms:created>
  <dc:creator>Hermann Dória</dc:creator>
  <dc:description/>
  <dc:language>en-US</dc:language>
  <cp:lastModifiedBy>001197221635</cp:lastModifiedBy>
  <dcterms:modified xsi:type="dcterms:W3CDTF">2019-02-15T11:44:44Z</dcterms:modified>
  <cp:revision>16</cp:revision>
  <dc:subject/>
  <dc:title>Plano de Contratações - 2016</dc:title>
</cp:coreProperties>
</file>