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B50-C555-47EB-BFDC-15B8D5B2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D97-797B-4998-9DE9-695C0EB2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7BD-4320-4232-902F-61552E63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4F0-7E65-491D-8955-549F2417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C410-0868-4CDB-8A00-54051EE0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2FA0-A091-47C0-B8FF-853BC178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4558-4260-40EC-A174-32F3A092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7CB5-5638-4ECA-8793-38679915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3048-39EF-41B8-9BFC-EAB2306E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87A8-C65C-4479-BE64-0E8C231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2ACB-5ED9-4AB4-B74C-B235165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0A4-9D9B-44EF-8C32-89FA5159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B0C7-5A9B-4066-A10B-B2A2A03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9DF0-F0E6-49E4-9DA5-8A02EAB4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0D6A-1C39-4FA1-A094-8231EFEE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0030-AF1A-43C7-814B-93270739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5A88-AA30-4CC2-A05B-F19AC0B3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023-5E38-43F2-AB18-7A441B3F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5C7-0744-4487-8D40-89974ABC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089-6D2A-43CB-AA87-481397A8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1F9-83C8-40F7-93A6-FBB206C6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85C-3636-46AD-8C20-B4C08099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BDF-E135-47CD-97C1-C974B0D0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A32-E3C9-45B6-88E0-DAB5C62E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4CF2-2A60-4C3A-BAB2-2A9D5051AD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944C-EF00-4B2E-A171-0DDD59113D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920" y="620280"/>
            <a:ext cx="460872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ª Reunião de Análise da Estratégia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15.02.2019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U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EJERN 2016-2020 (Res 24/2015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lano de Gestão 2018-202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elatório de Gestão 2018 TC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AEs realizadas em 201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iretrizes e Orientações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7640" y="76176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ssão – Visão de Futuro  Cadeia de Valo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m Somos? Missão e Val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de queremos chegar? Visão e Objetivos estraté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chegaremos? PEJERN 2016-2020 + Plano de Gestão 2018-20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102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retrizes e Orient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avaliação do Planejamento Estratégico do TRE/R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lteração na Cadeia de Valor da Justiça Eleitoral do RN - 2018 (Portaria nº 179/2018, 03.08.2018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mplantar a metodologia das Reuniões de Análise da Estratégia (RAE) – art. 11 da Res. TRE/RN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onitorar as reuniões periódicas das unidades administrativas, por meio dos planos institucionais de níveis tático e operacional, a partir das atas das respectivas reuniões das Unida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atório de Gestão 2018 do TRE/RN, com data limite de apresentação junto ao TCU, em 30.04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estrutura indicada será apresentada em reunião, no dia 19.02.2019, junto a comissão constituída, por meio da Portaria nº 50/2019-GP, de 08.02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o Justiça em Números – Grupo de Trabalho constituído, por meio da Portaria nº 57-GP, de 15.02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nálise das ações/projetos do Plano de Gestão 2018-2020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dicadores de Apoio do PEJER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ª Reunião do Ranking da Transparênc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finir pendências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Novo formato de acompanhamento (inclusão de periodicidade de análise)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lustrar sugestões de alterações ou incrementos, a partir de trabalho iniciado na ASPLAN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lher as indicações de servidores para evento de capacitação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car nova data de reunião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12:26:42Z</dcterms:created>
  <dc:creator>Hermann Dória</dc:creator>
  <dc:description/>
  <dc:language>en-US</dc:language>
  <cp:lastModifiedBy>001197221635</cp:lastModifiedBy>
  <dcterms:modified xsi:type="dcterms:W3CDTF">2019-02-15T11:44:44Z</dcterms:modified>
  <cp:revision>16</cp:revision>
  <dc:subject/>
  <dc:title>Plano de Contratações - 2016</dc:title>
</cp:coreProperties>
</file>